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EA80-3360-4B14-8D77-6E7FDCE9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F7F-1675-415F-B9F1-ED6984CF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C468-9B8C-4F58-B379-8870130E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60AF-DE62-43BC-AAB0-9D885967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A24F-763D-4F7C-97A0-1CEA41D6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78D6-8805-445B-A12D-F28DE584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0E5B-FD83-4B1A-B901-31E4BCC2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98C1-26F0-42BE-BFD3-E557F738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F16F-C1A4-4F3E-90C6-28DE86CE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FC55-8164-4426-B5AF-44592D15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9E45-CD4F-4015-A7C3-A5B0B601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DEEB-C7B7-4175-AC08-D5124E01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B828-705A-4C44-9DD0-7EA437D9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81F1-B5D5-473A-9745-86176D78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69EA-6139-4A73-809A-46469B01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B3A6-4328-490E-97F5-559DEF43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140E-C15C-4727-B553-F89C666E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BD321-4B03-4FA5-A7B9-05866DC7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3C03D-F3C2-4251-9EF8-04AD7DAF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265F4-1AE2-4FEA-9342-6B08E724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34705-1FD4-4053-A96C-9628D09C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128D8-D8BC-4684-B9C1-F88396C5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2BAE-8BE5-4115-9781-20A14F11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A4282-5C35-489A-9A1E-AF465694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285E4-E6EB-417F-8DB3-0A89A519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72C48-E4C7-47A2-9203-BD098626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EA993-70D2-463F-9C70-68941DAA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D7045-862B-4BB2-B1D6-BB79208F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8AFE6-7DF0-4E43-8068-EBE8244C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862AF-8D78-4C88-9327-EDA07D62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821E0-2DC6-4C75-BF00-DCF067E5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88109-7744-4603-81F8-CD775E41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53691-C821-41CB-A4FD-69180B41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C0D4-8B05-403C-8785-97796FB6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CEF54-9F55-4269-BD11-6D089DE8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8BB85-4C6D-48D8-836C-EB06FCCE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55414-4C1F-49BB-A622-FBFFFF8F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2947F-3311-42CB-929F-5C4A5CD4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B66CF-0810-491C-B850-0A06EFFF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85267-ECD2-4762-A2C1-3472D39B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08789-05AD-4D79-93F2-33C7806A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E2DF5-4296-4E4B-B497-F93F01BA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C4173-37F5-4E8D-880C-926B0A17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9273-6408-4113-9C78-BCAFD78E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1F19-2ECB-4C9C-A19E-6A746F87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6148-D3B4-4454-AAC7-1C983A61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8EB5-A56F-4B07-ABB3-70870729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3E1-FF26-4BD8-A319-29A088AC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5564-B6E1-4190-8CF1-55FE97A5E65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7CB2-476A-4AFF-B40D-020DA74AE05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476B-6D97-4C6F-A27A-5583408463C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F60F-1EC8-4C86-A440-5450319ED7A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18812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71760" y="285768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единиц време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57760" y="4286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сеньева Елен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анева Татьяна Юрь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Гимназия № 24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февраля 202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79280" y="765000"/>
          <a:ext cx="8785440" cy="399132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15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751120" y="1644480"/>
            <a:ext cx="364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641520" y="1663560"/>
            <a:ext cx="8137440" cy="183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611280" y="404640"/>
            <a:ext cx="7996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Лидово в Кузьминки можно проехать на автобусе с пересадкой в Марьино или в Сергеевке. Время движения автобуса между этими посёлками указано на схем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41520" y="3860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уть надо выбрать, чтобы успеть на поезд, отправляющийся из Кузьминок в 13 ч 15 мин, если известно, что автобусы отправляются из Лидово в 10 ч, при этом в Марьино приходится ждать автобуса 5 мин, а в Сергеевке – 15 мин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Прямоугольник 3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7:19Z</dcterms:created>
  <dc:creator>User1</dc:creator>
  <dc:description/>
  <dc:language>en-US</dc:language>
  <cp:lastModifiedBy>USER2</cp:lastModifiedBy>
  <cp:lastPrinted>2014-02-18T18:03:24Z</cp:lastPrinted>
  <dcterms:modified xsi:type="dcterms:W3CDTF">2023-02-21T12:23:39Z</dcterms:modified>
  <cp:revision>54</cp:revision>
  <dc:subject/>
  <dc:title>Для чего нужна  экономика?</dc:title>
</cp:coreProperties>
</file>