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B504-CCB1-491D-9E7D-22DA6836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75A3-69C8-414A-91E4-41C1E547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97C049-8B13-4DFD-BF86-3C1864F9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63873F-745B-4E8C-96D9-0D36F42E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5C7C4D-A292-4577-954E-403BF793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83BE79-CAE4-4CB3-9768-D2D25CE1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6AFFF7-053C-4C35-A691-378B54DE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24D945-B4B6-40B4-90BF-BC733951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B552FF-FECE-4D0D-B155-6028C341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C1C80C-B134-4512-BABD-3417A1127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130BC7-B0C9-48C6-ACE4-EA0672F8F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46ED10-904E-4EDB-984B-A6DF967B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8F4F-EE9D-4C16-A9E2-EC202DF22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38DE2E-5647-485E-87EE-6379EA02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24F212-C753-4F32-8D45-5C7C1F36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C67969-9A79-4B19-8BC1-A7FC2630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C0F017-5D83-4629-A3B3-DF600643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659B7A-17F9-4309-9F9F-548B08B8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23633B-8C22-4D90-BE4E-55AACCDF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E32D2F-10F7-4049-AEA0-8790C96F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71F07C-D643-41F8-9CBD-3B3BCC9C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76521F-D21A-49B7-9B4A-16160536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B4F631-A105-4375-963C-37D69ED4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4C3E-BE1C-4B4D-A076-D5B75E5A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B30356-AFFD-45F1-8F70-AC03112BE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94D21-8D76-4F74-B9F0-3D518EB82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7AEA9-9BAA-458F-96A4-EC3A91A0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56E22-7C90-4D62-8F57-06847EF1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90528-A0B2-4B70-A38F-C6BA4760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31D00-4712-448D-B3A5-DEC7F9A7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F5582-3076-4B82-BD37-C699F509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B8E2A-71AB-4CEC-833E-9BFDC82A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1F23D-7AD1-4547-B1D5-681EAACA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AE5D5-F3AC-4B5F-ABE4-6C9783B3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80AF-A8CE-4A5B-80EB-382FBB5C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A6B11-E771-4BF9-BB75-74766834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BFC43-E0B8-4028-A8E0-4CE42FE18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321F8-5385-4B96-883A-CB46AEA85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29563A-C173-42FF-8CCE-B26B5B4C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6DE963-6735-47C5-B9FC-47C60DD3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062C12-1676-4CF7-A018-4616D95B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2878A8-68CA-43A7-A4F7-C3321376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5D86BE-2143-4758-AE97-71FBCFA3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55B99B-73F2-4F3C-A1B8-31FA3F41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A9D801-759F-4526-B495-7879B4AD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84FF-48EA-4E29-BE88-C8615A5F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EC8ACF-97B1-408B-B30C-674E0CAA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9CDA0B-412F-4962-90FC-8EEBA09E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0E1030-28EB-4A14-812A-3C5BEAC7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E6B00F-7F8C-4E9A-8223-4634E0A50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A9E36D-BC0C-4C0D-A9AA-2EB79275C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C9E9-1508-44DF-8C66-C4477AFB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0981-4AFA-4F12-BD19-597C8D1A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A7D1-8E7C-4D02-92F9-C084D8A8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5CC1-6BFF-4109-8AD1-521EFB61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483A-941F-4050-A4C4-105B9F7D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82E1-AE7E-48CA-A89E-FB8D65CC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1741-DB79-4526-A6F4-499EF59F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5903-E5E8-4FCC-968B-527FA8D8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2AC5-68BC-424D-AD8F-6479D5EC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4947-FB3C-4F7A-8373-08EEB2092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D096-7FB5-400A-AC3D-AE2F1079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778F9-AD20-4F02-ABFE-0C31E91E8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0F36C-011B-4C67-BC5F-6D342E57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20750-A7C9-4765-BA9B-B379D05E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995EF-E94C-4808-BBF7-48C4F60E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D0052-C7D3-421A-8447-B5CE05CD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FF89-6919-4F20-A02C-5BB819A8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C1D8F-9642-4677-AAF9-B64CE2FD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0FF6C-7636-44B1-8DFF-0AF33403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8FAB4-0433-4EDA-92CA-58BAA749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6A127-0B36-46B6-AAA7-AE44AF9E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58FE0-5BB6-4F0A-95B4-121C1403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4BB65-714B-4AB9-8D70-CE87CBD8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CDFD3-33F4-46AD-B829-9E004BDF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F64DE-66CF-435E-992D-C818765D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C4102-B9C8-4AB3-98E6-2C5D9126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F830B-2077-4350-860C-D03FF43A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D0B2-EDEC-49B3-AACB-FC525946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654DC-E2A1-4155-ADCE-80707125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19F89-647A-4802-8117-C7E4D615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94B1C-3142-46AF-A349-88CCC183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FD1BB-3410-4A13-ACF8-D37EC6AE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C3066-BCE4-4C05-ABC6-57E1AE63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5A704-3813-4BC2-99BC-52DB753F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C8DE2-66E2-4DF1-97FF-82863CB1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751AF-14EE-4F1F-AA42-F341E94C7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B5ECA-AE75-4E7C-9D78-906E91CB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D935D-31A7-4EE4-B08A-47D2EB08B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0910-01E4-41FD-A107-9513E762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DBD2F-F7ED-41AB-84FB-DED613ED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F6DB2-B4AA-4852-97E3-8E89C23D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DBB1B-14C2-43AD-8643-C34C1419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38492-4356-4097-B301-70DAE293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661D3-3B62-4C2F-8681-075A6F8A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69107-9344-4D8D-9F88-3921E935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06AE8-AB30-44F5-B763-42FA7022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1A70F-970F-4F3E-8E84-EE8BBE84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2571F-6954-4E4C-88F1-AC26CEB8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2FCEA-5ECB-4553-8EB9-6F3721E77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E830-465F-4149-8700-54F30550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76019-1CBC-427D-8667-DAAAB0FFF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F998E-A014-4580-97B7-E2203B073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96AB8-EC70-4E73-9AB9-D2A4D08A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A96C8-005E-42FF-B02A-93B90D1F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DA85C-717B-449A-9088-89596E63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2E543-6FA5-4F2F-A8EB-9308ECB4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952AF-3045-4CE3-BB74-83152EF5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84CCB-48DB-446B-888D-52155E57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6DD09-A1F2-43CC-815E-594EB962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F52AD-994C-47F5-963C-EDF5D559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807B-4697-40EC-8C07-316AD107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FE0AE-E73B-4CAB-BE22-E8604F1C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EBAA4-4CFE-49DA-A491-BE758807C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48DFE-539F-4B3B-B697-589C66CB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32D86-0EFC-40D1-B2B7-EDAB7BDC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4601E-1CC4-4A99-B252-22DE9530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0C9BD-0CFB-46D5-827F-9564FC33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5EF32-67DE-44B4-8230-ED1E0E1A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B2393-C922-48DE-95AF-2380EF28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67D84-48AB-40F1-BE03-CCD3C99A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031D1-8E7F-4757-ADC7-E07A7FC3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D296-F697-4F38-BA07-D0AA2B40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30E6A-D512-4EB7-B209-7D3AAB4A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6A8B6-2E24-4CEE-B5AC-303721A9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0D193-4470-4C81-8D49-6474115B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2445C-2223-4499-B7FC-529C63BAD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C3CA9-5EF1-4F4C-A256-2BC04A470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653D8-B66E-409A-AFBB-BC020367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71E68-DE53-4CFB-8EA6-B330010C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D7A18-63F6-4D6A-9D05-A0B6396A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7006B-CD0C-43F8-BD6B-5302A98F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93FBA-CA2C-4FFE-9C24-4762BA48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3E21-2032-40F6-B83F-5BBD254B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211E7-6BFD-4DBC-AA2F-5027E4B8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8B10C-4501-40ED-8D30-3E0C427B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FD8B8-7731-4691-88D3-1679CE14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3528E-3463-4AAD-B363-4B558DE8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DCB57-8BEF-4F0D-A70A-8C2BD5F8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028E9-5518-4856-8E9E-DB48294D9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AE058-F85B-4F65-B84F-1EE13BC97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1D381B-C10D-40A4-9939-823782BB7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B2349E-2266-4938-8999-FE16A31B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E0B493-E63F-4101-B4F6-82B0CF30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A139-6F6E-4C78-B72F-730C0B59A0F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EC2D-8B26-4E99-A917-51C1A5AA281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F3E7-BF86-4EDC-9944-3A8ECE26381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2F8A-7E86-425C-A6F8-BE5262B21E1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1C35-B4B2-48B0-90DE-CF814F40FF9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3982-A773-45D2-A89D-774EEFBA7B7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9CD8-7CBA-4A80-B7AE-4A53E2D6F49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7D31-ABA6-41EB-8A46-74807E8AD9B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2F8B-9916-450B-B2A6-1BB2F93DCBF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0298-935C-4703-AF1A-22DC61BD95B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C9FB-5027-4435-9BD6-273404D1166C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555F-936D-4E6D-9895-647D6842966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3779640" y="4941720"/>
            <a:ext cx="457812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НЕЧИТАЙЛО И.Н., ПРОНЕР М.А. УЧИТЕЛЯ НАЧАЛЬНЫХ КЛАССОВ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1402920" y="2205000"/>
            <a:ext cx="705492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аспродажи, скидки. </a:t>
            </a:r>
            <a:br>
              <a:rPr sz="4200"/>
            </a:b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ешение задач.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Рисунок 4" descr="скидки.jpg"/>
          <p:cNvPicPr/>
          <p:nvPr/>
        </p:nvPicPr>
        <p:blipFill>
          <a:blip r:embed="rId1"/>
          <a:stretch/>
        </p:blipFill>
        <p:spPr>
          <a:xfrm>
            <a:off x="539640" y="476280"/>
            <a:ext cx="309564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395280" y="549360"/>
          <a:ext cx="8353440" cy="547200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400"/>
                <a:gridCol w="1670040"/>
                <a:gridCol w="1671480"/>
              </a:tblGrid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ы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 39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4 5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ез скид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в руб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не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19T12:14:11Z</dcterms:created>
  <dc:creator>Дом</dc:creator>
  <dc:description/>
  <dc:language>en-US</dc:language>
  <cp:lastModifiedBy>User</cp:lastModifiedBy>
  <dcterms:modified xsi:type="dcterms:W3CDTF">2023-02-21T12:12:38Z</dcterms:modified>
  <cp:revision>19</cp:revision>
  <dc:subject/>
  <dc:title>Распродажи, скидки.  Решение задач.</dc:title>
</cp:coreProperties>
</file>